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18.gif" ContentType="image/gif"/>
  <Override PartName="/ppt/media/image16.gif" ContentType="image/gif"/>
  <Override PartName="/ppt/media/image1.wmf" ContentType="image/x-wmf"/>
  <Override PartName="/ppt/media/image15.gif" ContentType="image/gif"/>
  <Override PartName="/ppt/media/image17.png" ContentType="image/png"/>
  <Override PartName="/ppt/media/image14.gif" ContentType="image/gif"/>
  <Override PartName="/ppt/media/image3.png" ContentType="image/png"/>
  <Override PartName="/ppt/media/image4.wmf" ContentType="image/x-wmf"/>
  <Override PartName="/ppt/media/image5.png" ContentType="image/png"/>
  <Override PartName="/ppt/media/image2.gif" ContentType="image/gif"/>
  <Override PartName="/ppt/media/image6.gif" ContentType="image/gif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8224-155E-4EF0-BC6F-3B7E06E6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5318-00E9-46BC-A0BB-813C0FA4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4699-EA5B-4B37-87E7-93623C64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4C0-A073-46D1-8799-27C3B1E7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4D31-3B76-4C38-B543-10F68FAF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A50-746A-4F57-8339-F54D4D63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521-8C53-49BB-960D-039472A3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4CB1-EFA8-46C8-9284-CC348B8E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369-DD5E-49C4-B32C-D5BDF695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945C-3B6A-4894-A814-52038648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97BE-E0F0-4BA3-A444-53E9AAE5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6A70-BB30-47EC-AF35-E6002C43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9B36-2EFD-4148-AC53-8B20872CF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корзина"/>
          <p:cNvPicPr/>
          <p:nvPr/>
        </p:nvPicPr>
        <p:blipFill>
          <a:blip r:embed="rId1"/>
          <a:stretch/>
        </p:blipFill>
        <p:spPr>
          <a:xfrm>
            <a:off x="500040" y="1285920"/>
            <a:ext cx="6408720" cy="4716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1143000" y="357120"/>
            <a:ext cx="96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 ДНЁМ МАТЕРИ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Мальчик с букетом"/>
          <p:cNvPicPr/>
          <p:nvPr/>
        </p:nvPicPr>
        <p:blipFill>
          <a:blip r:embed="rId2"/>
          <a:stretch/>
        </p:blipFill>
        <p:spPr>
          <a:xfrm>
            <a:off x="6572160" y="992160"/>
            <a:ext cx="2286000" cy="5865840"/>
          </a:xfrm>
          <a:prstGeom prst="rect">
            <a:avLst/>
          </a:prstGeom>
          <a:ln w="0">
            <a:noFill/>
          </a:ln>
        </p:spPr>
      </p:pic>
      <p:pic>
        <p:nvPicPr>
          <p:cNvPr id="46" name="мамочка родная.mp3" descr=""/>
          <p:cNvPicPr/>
          <p:nvPr/>
        </p:nvPicPr>
        <p:blipFill>
          <a:blip r:embed="rId3"/>
          <a:stretch/>
        </p:blipFill>
        <p:spPr>
          <a:xfrm>
            <a:off x="428760" y="62150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TextBox 8"/>
          <p:cNvSpPr/>
          <p:nvPr/>
        </p:nvSpPr>
        <p:spPr>
          <a:xfrm>
            <a:off x="784800" y="6000840"/>
            <a:ext cx="67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ь: учитель начальных классов МОУ «Поповская ООШ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жова Н.А.,Панченко Г.П., Баландина Н.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56320" y="285840"/>
            <a:ext cx="832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Я люблю маму за то, что она моя мама. Я хоч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чтобы мама никогда не болел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ергеева Екатери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1367280" y="1928880"/>
            <a:ext cx="746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Я маму люблю и она меня. Я ей помогаю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убираться, мыть посуду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оробьёв Викто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28760" y="3571920"/>
            <a:ext cx="809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я мама очень строгая и очень красивая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ибизов Серге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224640" y="4857840"/>
            <a:ext cx="795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Моя мама самая лучшая из всех. Она всегд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привозит мне подарк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Кезин Данил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Ins09"/>
          <p:cNvPicPr/>
          <p:nvPr/>
        </p:nvPicPr>
        <p:blipFill>
          <a:blip r:embed="rId1"/>
          <a:stretch/>
        </p:blipFill>
        <p:spPr>
          <a:xfrm>
            <a:off x="-714240" y="2286000"/>
            <a:ext cx="3430440" cy="13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Мамочка я люблю тебя безмерно.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i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Чукина Ирина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640720" y="6000840"/>
            <a:ext cx="46080" cy="12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374760" y="1285920"/>
            <a:ext cx="841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Моя мама самая красивая, добрая, прекрасная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любимая. Она будто  ангел сошедший с небес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один Данил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285840" y="292896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Я очень люблю свою маму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Кисилёв Кирил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316440" y="4000680"/>
            <a:ext cx="881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я мама любит меня, а я ещё больше люблю её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шков Алексе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214200" y="5072040"/>
            <a:ext cx="857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ама моя хорошая, красивая, милая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Я её люблю и уважаю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Храмова Наталь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4a27cdfc004c"/>
          <p:cNvPicPr/>
          <p:nvPr/>
        </p:nvPicPr>
        <p:blipFill>
          <a:blip r:embed="rId1"/>
          <a:stretch/>
        </p:blipFill>
        <p:spPr>
          <a:xfrm>
            <a:off x="7286760" y="2857680"/>
            <a:ext cx="12859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букет"/>
          <p:cNvPicPr/>
          <p:nvPr/>
        </p:nvPicPr>
        <p:blipFill>
          <a:blip r:embed="rId1"/>
          <a:stretch/>
        </p:blipFill>
        <p:spPr>
          <a:xfrm>
            <a:off x="0" y="500040"/>
            <a:ext cx="5000760" cy="617688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2028240" y="214200"/>
            <a:ext cx="516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ЗДРАВЛЯЕМ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4786200" y="2000160"/>
            <a:ext cx="457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ам желаем, дорогие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ыть здоровыми всегда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б вы долго-долго жили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старели никогда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Есть в природе знак</a:t>
            </a:r>
            <a:br>
              <a:rPr sz="3200"/>
            </a:b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 святой и вещий,</a:t>
            </a:r>
            <a:br>
              <a:rPr sz="3200"/>
            </a:b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Ярко обозначенный в веках;</a:t>
            </a:r>
            <a:br>
              <a:rPr sz="3200"/>
            </a:b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Самая прекрасная из женщин –</a:t>
            </a:r>
            <a:br>
              <a:rPr sz="3200"/>
            </a:br>
            <a:r>
              <a:rPr b="0" i="1" lang="en-US" sz="3200" spc="-1" strike="noStrike">
                <a:solidFill>
                  <a:srgbClr val="7030a0"/>
                </a:solidFill>
                <a:latin typeface="Arial"/>
              </a:rPr>
              <a:t>Женщина с ребёнком на руках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С. Острова</a:t>
            </a:r>
            <a:r>
              <a:rPr b="0" lang="en-US" sz="4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мама с ребенком"/>
          <p:cNvPicPr/>
          <p:nvPr/>
        </p:nvPicPr>
        <p:blipFill>
          <a:blip r:embed="rId1"/>
          <a:stretch/>
        </p:blipFill>
        <p:spPr>
          <a:xfrm>
            <a:off x="6364440" y="542880"/>
            <a:ext cx="2608200" cy="569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000080" y="35712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ЫЕ ТЁПЛЫЕ ПОЖЕЛАНИЯ В  АДРЕС  МАМ!!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много цветов"/>
          <p:cNvPicPr/>
          <p:nvPr/>
        </p:nvPicPr>
        <p:blipFill>
          <a:blip r:embed="rId1"/>
          <a:stretch/>
        </p:blipFill>
        <p:spPr>
          <a:xfrm>
            <a:off x="1500120" y="1643040"/>
            <a:ext cx="5357880" cy="50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675000" y="214200"/>
            <a:ext cx="778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 из сочинений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щихся 2-4 классов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8" descr="J0079114.WMF"/>
          <p:cNvPicPr/>
          <p:nvPr/>
        </p:nvPicPr>
        <p:blipFill>
          <a:blip r:embed="rId1"/>
          <a:stretch/>
        </p:blipFill>
        <p:spPr>
          <a:xfrm>
            <a:off x="642960" y="2428920"/>
            <a:ext cx="1914480" cy="4147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D:\МАМА\клипарт\post-56918-1250964969.png"/>
          <p:cNvPicPr/>
          <p:nvPr/>
        </p:nvPicPr>
        <p:blipFill>
          <a:blip r:embed="rId2"/>
          <a:stretch/>
        </p:blipFill>
        <p:spPr>
          <a:xfrm>
            <a:off x="6786720" y="2500200"/>
            <a:ext cx="1800000" cy="3160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разные цветы"/>
          <p:cNvPicPr/>
          <p:nvPr/>
        </p:nvPicPr>
        <p:blipFill>
          <a:blip r:embed="rId3"/>
          <a:stretch/>
        </p:blipFill>
        <p:spPr>
          <a:xfrm>
            <a:off x="2714760" y="2857680"/>
            <a:ext cx="3813120" cy="36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Мама самый родной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человек в мире! Моя мама самая заботливая. Я люблю её!</a:t>
            </a:r>
            <a:br>
              <a:rPr sz="28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                                              Зеленцова Дарья</a:t>
            </a:r>
            <a:br>
              <a:rPr sz="28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Мама для меня самая красивая. Я свою маму очень любл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                         </a:t>
            </a:r>
            <a:r>
              <a:rPr b="0" i="1" lang="ru-RU" sz="2800" spc="-1" strike="noStrike">
                <a:solidFill>
                  <a:srgbClr val="cc0000"/>
                </a:solidFill>
                <a:latin typeface="Arial"/>
              </a:rPr>
              <a:t>Лисяков Анато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Моя мама красивая и добрая. Мама – самый близкий для меня человек. Моя мама помогает делать мне у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                               </a:t>
            </a:r>
            <a:r>
              <a:rPr b="0" i="1" lang="ru-RU" sz="2800" spc="-1" strike="noStrike">
                <a:solidFill>
                  <a:srgbClr val="660033"/>
                </a:solidFill>
                <a:latin typeface="Arial"/>
              </a:rPr>
              <a:t>Авдеев Анд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2" descr="a1"/>
          <p:cNvPicPr/>
          <p:nvPr/>
        </p:nvPicPr>
        <p:blipFill>
          <a:blip r:embed="rId1"/>
          <a:stretch/>
        </p:blipFill>
        <p:spPr>
          <a:xfrm>
            <a:off x="6280200" y="4321080"/>
            <a:ext cx="2863800" cy="25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Мама для меня родной, любимый человек. Она за мной ухаживает, любит меня.</a:t>
            </a:r>
            <a:br>
              <a:rPr sz="2800"/>
            </a:b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Суворова И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Я люблю свою маму за то, что она дала мне жизнь. Она красивая и любит меня, заботится обо м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cc00"/>
                </a:solidFill>
                <a:latin typeface="Arial"/>
              </a:rPr>
              <a:t>                                  </a:t>
            </a:r>
            <a:r>
              <a:rPr b="0" i="1" lang="ru-RU" sz="2800" spc="-1" strike="noStrike">
                <a:solidFill>
                  <a:srgbClr val="99cc00"/>
                </a:solidFill>
                <a:latin typeface="Arial"/>
              </a:rPr>
              <a:t>Лисякова Дар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Моя мама самая красивая, заботливая, любимая, добра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                            </a:t>
            </a:r>
            <a:r>
              <a:rPr b="0" i="1" lang="ru-RU" sz="2800" spc="-1" strike="noStrike">
                <a:solidFill>
                  <a:srgbClr val="990000"/>
                </a:solidFill>
                <a:latin typeface="Arial"/>
              </a:rPr>
              <a:t>Ярдушкина Ната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оя мама лучшая на всей планете. Она меня любит, и я её тоже очень любл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        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Завалова Алё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5603"/>
          <p:cNvPicPr/>
          <p:nvPr/>
        </p:nvPicPr>
        <p:blipFill>
          <a:blip r:embed="rId1"/>
          <a:stretch/>
        </p:blipFill>
        <p:spPr>
          <a:xfrm>
            <a:off x="-285840" y="2286000"/>
            <a:ext cx="168120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оя мама красивая, заботливая, неповторимая.     Я люблю её!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Барскова Соф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расивая, добрая, умная. Заботливая, любимая МАМ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                          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Жданова Я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Мама для меня самая любимая. Я люблю мам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                         </a:t>
            </a:r>
            <a:r>
              <a:rPr b="0" i="1" lang="ru-RU" sz="2800" spc="-1" strike="noStrike">
                <a:solidFill>
                  <a:srgbClr val="ff9900"/>
                </a:solidFill>
                <a:latin typeface="Arial"/>
              </a:rPr>
              <a:t>Дубровец Ники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Мама самый родной человек, она за нами ухаживает. Я её очень любл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                                   </a:t>
            </a:r>
            <a:r>
              <a:rPr b="0" i="1" lang="ru-RU" sz="2800" spc="-1" strike="noStrike">
                <a:solidFill>
                  <a:srgbClr val="99cc00"/>
                </a:solidFill>
                <a:latin typeface="Arial"/>
              </a:rPr>
              <a:t>Саунова Оль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5575"/>
          <p:cNvPicPr/>
          <p:nvPr/>
        </p:nvPicPr>
        <p:blipFill>
          <a:blip r:embed="rId1"/>
          <a:stretch/>
        </p:blipFill>
        <p:spPr>
          <a:xfrm>
            <a:off x="0" y="3714840"/>
            <a:ext cx="1628640" cy="28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376640" y="571680"/>
            <a:ext cx="747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оя мама лучше всех! Она любимая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расивая, нежная и рукодельница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i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олова Татьян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327600" y="2714760"/>
            <a:ext cx="8542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люблю свою маму и забочусь о ней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лтова Мар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214200" y="4357800"/>
            <a:ext cx="8572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Мама мне самая родная. Моя мама красивая!   Я люблю свою маму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575d1"/>
                </a:solidFill>
                <a:latin typeface="Times New Roman"/>
                <a:ea typeface="Times New Roman"/>
              </a:rPr>
              <a:t>Лукина Дарь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2263"/>
          <p:cNvPicPr/>
          <p:nvPr/>
        </p:nvPicPr>
        <p:blipFill>
          <a:blip r:embed="rId1"/>
          <a:stretch/>
        </p:blipFill>
        <p:spPr>
          <a:xfrm>
            <a:off x="0" y="571680"/>
            <a:ext cx="1284120" cy="20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405360" y="428760"/>
            <a:ext cx="870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Мама любит меня. Она одна такая на свете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Темнова Ульян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536040" y="1571760"/>
            <a:ext cx="837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Я люблю свою маму, потому что она мне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о всём помогает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Макшанцева Дарь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2071800" y="3357720"/>
            <a:ext cx="677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Мама добрая, очень любит всех нас. Я её люблю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Чукина Любов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ABGBS"/>
          <p:cNvPicPr/>
          <p:nvPr/>
        </p:nvPicPr>
        <p:blipFill>
          <a:blip r:embed="rId1"/>
          <a:stretch/>
        </p:blipFill>
        <p:spPr>
          <a:xfrm>
            <a:off x="357120" y="2643120"/>
            <a:ext cx="1428840" cy="178596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310320" y="5103720"/>
            <a:ext cx="875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я мама самая лучшая на свете. Я люблю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ё за любовь и заботу обо мне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тросян Анаи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418320" y="428760"/>
            <a:ext cx="81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оя мама красивая. Она вкусно готовит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еленцов Алексе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233280" y="1857240"/>
            <a:ext cx="807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Мама – это святое. Мама, я тебя люблю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очень сильно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Рекало Ксе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421560" y="4000680"/>
            <a:ext cx="833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ама очень ласковая и любит меня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гда я делаю уроки, мама мне помогает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ирин Максим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f070"/>
          <p:cNvPicPr/>
          <p:nvPr/>
        </p:nvPicPr>
        <p:blipFill>
          <a:blip r:embed="rId1"/>
          <a:stretch/>
        </p:blipFill>
        <p:spPr>
          <a:xfrm>
            <a:off x="714240" y="2643120"/>
            <a:ext cx="205452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428760" y="285840"/>
            <a:ext cx="792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Моя мама очень хорошая, заботливая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Я люблю свою маму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Колосова Валер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434520" y="2143080"/>
            <a:ext cx="815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я мама хорошая. Она подарила мне жизнь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лодин Дмитр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500040" y="335772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му я очень люблю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дряшов  Александ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307800" y="4786200"/>
            <a:ext cx="774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оя мама самая лучшая в мире. Она самая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расивая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омакин Макси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GROUPCLR"/>
          <p:cNvPicPr/>
          <p:nvPr/>
        </p:nvPicPr>
        <p:blipFill>
          <a:blip r:embed="rId1"/>
          <a:stretch/>
        </p:blipFill>
        <p:spPr>
          <a:xfrm>
            <a:off x="428760" y="2857680"/>
            <a:ext cx="2000160" cy="203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6:02:19Z</dcterms:created>
  <dc:creator>алена</dc:creator>
  <dc:description/>
  <dc:language>en-US</dc:language>
  <cp:lastModifiedBy>Рыжова</cp:lastModifiedBy>
  <dcterms:modified xsi:type="dcterms:W3CDTF">2013-12-26T10:46:04Z</dcterms:modified>
  <cp:revision>32</cp:revision>
  <dc:subject/>
  <dc:title>Слайд 1</dc:title>
</cp:coreProperties>
</file>